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B479-F613-4F83-82D0-4C3080FF018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1523-2AD3-43E2-8F74-FC0DD945D7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74E7-7429-4756-B0BB-2A7FDAD02C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434A-5DD8-4689-8021-5B569BB29C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F2A1-FE6C-421B-899A-2ACB8DCA8D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9BDF-3972-4A99-AB63-84A1728517D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2848-F6FD-434A-87F1-9950260A447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D134-5545-487D-9076-1008A7252C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839-D845-43F5-8EF9-D02E9F1F2B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82D2-3680-4A15-875C-D3BF16BFCA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2313-C9FD-4EB3-8693-85DDCE2EAF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0916-F360-4D84-8B63-9DAF3F85F0D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85F1-5A22-4870-B94A-17C7680771A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a Pellegatta maggio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DDD-ED50-4A28-AAF0-BFA9D019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D5B-FC39-4BAA-9158-5F2D0EDC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EE6-EF64-46DB-B65E-99484DCF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4B9-D40A-4E50-95FD-E7FC08B8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AFF-D535-4CBC-890B-DB9863C8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BE1-D03F-4B4E-B834-4D004530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30E-4372-46C5-A831-E1BF9A47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85C-9DF6-43C4-BFC8-BBCD115D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D80-EAEE-4BD0-8ED7-70218F88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A15-5531-490B-B14B-27A58CAB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CBF-F195-46CB-9FFE-F11B126A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9CA-9DC5-4300-8449-45E7ABA0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A377-6CE0-4338-8023-88735DA71F8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ESAMI DI S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teriali e normativa per gli stud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na Pellega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RMATIVA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mmission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l termine degli scrutini si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comunica pubblicamen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’ammissione/non ammissione agli esam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alogamente sono pubblicati i voti e  punteggi di credito scolastico pere tutti gli studenti ammessi all’esame (è bene controlla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RMATIV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unteg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le prove scritte la sufficienza equivale a 10/15 e il punteggio massimo è di 15/15 per ogni singola prova; il punteggio complessivo è al massimo di 45/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le prove orali la sufficienza equivale a 20/30 e il punteggio massimo è di 30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redito scolastico può essere al massimo di 25 pu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RMATIV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ubblicazione dei punteg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unteggi devono essere pubblicati subit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opo che sono stati deliber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redito dopo lo scrutini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unteggi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compless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gli scritti un giorno prima dell’or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unteggio definitivo al termine delle operazione della commiss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RMATIV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lloqu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lloquio inizia sempre da un argomento a scelta del candida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litamente è lasciato un tempo di 10 minuti per l’esposizione dell’argomento a scel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li student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ono tenuti alla presentazione di una tesina scritta, ma devono presentare una scaletta in cui compia il titolo, le discipline coinvolte, la mappa concettuale dell’interv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REDI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.M. 16 dicembre 2009, n. 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vo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di credito scolas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n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an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an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=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&lt;M&lt;=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&lt;M&lt;=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&lt;M&lt;=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&lt;M&lt;=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ANDA DI OSCILL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unteggio di credito può oscillare da un minimo ad un massimo in corrispondenza della media dei vot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aso di credito formativo, il punteggi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uò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spostarsi al massimo della banda di oscillazione: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non è un automatism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redito è deliberato dal consiglio di classe in sede di scrut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REDITO SCOLASTICO E FORM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dito scolastico: risulta dalla media dei voti finali compreso il voto di condot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dito formativo: risulta da attività extra, svolt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anch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fuori di scuola, presso enti riconosciuti e deve essere certificato (vedi circol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SS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aso in cui le ore di assenza NON GIUSTIFICATE da particolari situazioni patologiche e/o famigliar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ocumen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superino il 75% del totale, il consiglio di classe può deliberare 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on ammis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ll’esame di s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VOTO DI CONDOT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 inferiore a 6/10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provoca automaticamente la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 ammissione all’e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UONE N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vere sempre un documento di identità vali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positare cellulari e palmari prima di affrontare ogni prov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urante gli scritti non ci si può allontanare dal proprio posto prima dello scadere di 3 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caso di assenza per malattia avvisare tramite fax la scuola e inviare quanto prima un certificato med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sere puntual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vere un abbigliamento decoro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ATERI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stata pubblicata dal Ministero l’OM 252/2016 che regolamenta lo svolgimento degli esam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utti  i consigli di classe il 15 maggio devono consegnare in segreteria per la pubblicazione il documento del Consiglio di Clas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disponibili sul sito i moduli utili per gli studenti: modello di scaletta, autocertificazione crediti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UONE N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 usare mai la matita (negli scritt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 usare cancelline e gomme per cancell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pararsi a casa la correzione degli scritti che sarà richiesta in sede di colloqui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pararsi degli argomenti a scelta in tutte le mate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alendario dei colloqu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alendario dei colloqui è predisposto dal presidente che valuta eventuali impegni dei commissari con altre commission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sede di riunione preliminare si sceglie da quale classe cominciare, a parità di condizione si può estrarre a sor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non vi sono particolari problemi, il giorno della I prova si fa estrarre dai candidati la lettera dell’alfabeto da cui iniziare gli or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sposizione dei risultati delle prove scri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 termine della correzione della III prova si espongono gli esiti delle prove scrit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possibile riportare gli esiti delle tre prove e il punteggio complessiv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giorno successivo alla esposizione dei risultati degli scritti è di pausa prima di iniziare i colloqu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unteggio degli scritti va esposto un giorno prima dei colloqui per entrambe le clas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DURATA DEI COLLOQ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colloqui potrebbero regolarmente iniziare mercoledì 29 giugno oppure giovedì 30 giugno e poiché la norma stabilisce che si possono ascoltare 5 candidati al giorno tranne casi particolari ed eccezionali, i colloqui potrebbero durare al massimo fino a venerdì 15 luglio in una commissione che contasse 70 candid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crutini e risultati fin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 termine dei colloqui della PRIMA CLASSE esaminata si deve procedere allo scrutinio, compilando tutta la modulistica prevista compresi i tabellon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tabelloni con i risultati finali saranno esposti SOLO  alla fine di tutte le operazioni di scrutinio per tutte le classi della commissi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 è necessario che i docenti della I classe scrutinata tornino in servizio in occasione della esposizione dei tabelloni fin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RGOMENTO A SC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SENTAZIONE ARGOMENTO A SCELTA (a cura degli stud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gno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no scolas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gue studi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tolo dell’argomento a scel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terie coinvol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ppa concettua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entuali supporti richiesti: video, registratore, computer, LIM, carta geografica, manichin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bliografia: citare i più importanti testi e/o siti utilizzati per l’elaborazione del proprio argo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rma del candid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modulo così compilato deve essere consegnato, salvo diversa indicazione del presidente della commissione d’esame, in occasione della I pro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UTOCERTIFICAZIONE CREDITO FORM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UTOCERTIFICAZIONE PER L’ATTRIBUZIONE DEL CREDITO F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a cura dello stud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/la sottoscritta studente/essa____________________________della classe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chiara di aver svolto le seguenti attività utili per l’attribuzione del credito forma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ognuna delle attività indicate allega copia dell’attestato rilasciato dalla società o dall’ente organizzatore. L’attestato va consegnato al coordinatore di cl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RMATIV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OM 252/16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e 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unedì 20 giugno: riunione preliminare (solo per la componente doc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rcoledì 22 giugno 8.30: I prov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iovedì 23 giugno 8.30: II prov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unedì 27 giugno: III Pr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rova suppletiva: 6 luglio h. 8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I prova suppletiva: 7 luglio h. 8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II prova supplettiva: nel secondo giorno successivo alla II pr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RMATIV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OM 252/13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e 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correzione delle prove scritte può iniziare al termine della III pr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risultati conseguiti nelle prove scritte sono pubblicati contemporaneamente per le due classi della commiss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RMATIV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e 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li orali iniziano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u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giorno dopo l’affissione dei risultati delle prove scrit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risultati devono essere pubblicati in contemporanea per entrambe le classi di ogni commissione il giorno precedente l’inizio degli oral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rmalmente si  svolgono 5 orali al giorn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ordine degli orali ( lettera dell’alfabeto) è determinato per estrazione a s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RMATIV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e pr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I e la II prova provengono dal Ministero della Pubblica Istruzi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III prova è elaborata dalla commissione e decisa la mattina stessa in cui si effettua; la commissione, di solito, si ispira alle tipologie di prove adottate dalla scu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gni prova scritta può essere valutata al massimo in 15 punti, dando un punteggio complessivo di 45 pu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RMATIV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mmission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mmissione agli esami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non è automatic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deve essere deliberata in sede di scrutinio dal consiglio di clas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può essere ammessi all’esam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ol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in presenza di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uffici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in tutte le mat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non ammis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ll’esame deve essere ampiamente motiva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1:26:33Z</dcterms:created>
  <dc:creator>pellegatta</dc:creator>
  <dc:description/>
  <dc:language>en-US</dc:language>
  <cp:lastModifiedBy>Gioacchino de Lucia</cp:lastModifiedBy>
  <dcterms:modified xsi:type="dcterms:W3CDTF">2016-05-16T08:45:05Z</dcterms:modified>
  <cp:revision>17</cp:revision>
  <dc:subject/>
  <dc:title>ESAMI DI STATO</dc:title>
</cp:coreProperties>
</file>